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54AB-9BE2-45E5-BA88-659AEF857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382-31A7-476D-BD03-BF9CA57F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81A-6DE1-4739-B7DC-E323FDBB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870-6CC9-4BD7-8B55-A64C1F74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9407B-C8B5-4ED9-81CB-78D996908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6DB36-C743-4096-979F-D553E165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18EFF-3981-4D68-B05C-97BDA638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A4E49-9295-409E-B9EB-603588A7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20038-2596-4ED2-A73E-B0CE5DBB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F1E3C-F2D5-4AFB-BA63-BA26BADA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7156F-0B0E-4EC2-8804-F767A151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E61-DF8E-407C-9541-FFFC9D54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85B823-F4CB-41BB-A82A-6E14D171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05E64-C236-4CFA-A488-3FEB1C76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DC67A-BA6D-4569-8B3C-94120B2B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12D9B1-DEA3-489D-87A3-F2FDC6A2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F2C0C-D0B3-4C14-9E77-47CA85F2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111-2FFF-48E6-ADE4-99A2703E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709-B100-460B-89B6-1BAC046D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9C80-9046-4AAB-B138-D2C53505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A25-DEBD-49D8-A721-9EA6273B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D7A6-CB80-46FB-AB87-41898DE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CE8-8BA1-4A57-A01D-086BBF4D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48A-4039-4E18-9B6D-A1050FFF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CBB8-D752-46BC-8824-A18C42F6C216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D936-3BD8-4FE8-B728-C8F14DBA113B}" type="slidenum"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ELVEOPERITONITIS GENITALNOG POREK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edstavlja zapaljenje dela parijetalnog i visceralnog peritoneuma koji oblaže zid i pokriva organe male karl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Terapija je prvenstveno </a:t>
            </a:r>
            <a:r>
              <a:rPr b="0" lang="sr-Latn-CS" sz="4000" spc="-1" strike="noStrike">
                <a:solidFill>
                  <a:srgbClr val="ff0066"/>
                </a:solidFill>
                <a:latin typeface="Tahoma"/>
              </a:rPr>
              <a:t>konzervativn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ospitalizacija i mirovanje u postel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Led na donjem delu trbu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ntibiotici širokog spektra i kortikosteroid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ntipiretici i analget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rajna infuzija zbog nadoknade elektroli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Kod gnoja u Duglasu - kolpoto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HRONIČNI PELVEOPERITONIT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aostali inkapsulirani patološki eksuda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eritubarni hematomi i retrouterina hematokela kod ektopične trudnoć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orkvacije ovarijalnih tum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ndometrioz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dhezije, posebno posle hirurških oper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osledice adhezija su bolovi i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Fiksirana retrofleksija 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uterus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, dispareunija, dismenore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prolaznost 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jajovoda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 sa sterilitetom i ektopičnom trudnoć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olicistična degeneracija 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jajni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bog sraslina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 rektuma, 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težana defek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povoljan uticaj na </a:t>
            </a:r>
            <a:r>
              <a:rPr b="0" lang="sr-Latn-CS" sz="3200" spc="-1" strike="noStrike">
                <a:solidFill>
                  <a:srgbClr val="ffcc00"/>
                </a:solidFill>
                <a:latin typeface="Tahoma"/>
              </a:rPr>
              <a:t>psihičko s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Terapija: uporna i dugotrajn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Antibiotic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Nespecifična nadražajna terapija, poliflamin, autohemoterap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ratkotalasna dijatermija (KTD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elioterapija, talasoterap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Vaginalna orošavan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anjska terapij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Hirurška terapija (radikalna i konzervativn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Apsces Duglasovog prostor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kupljanje gnoja u najdubljem delu trbušne šupljine, najčešće posle pelveoperitonitisa, ruptura gnojnih tumora, zagnojene retrouterine hematokele, neginekološkog oboljenja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Simptom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Loše opšte st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aki bolovi u donjem delu trbu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Visoka temperatura, drhtavica, ubrzani puls, malaksalost, opstip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ritisak na debelo crevo, tenezmi i sluzavi proliv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težano mokre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iff. Dijagnoz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bostrani piosalpinksi, srasli i fiksirani u Duglasovom prost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arametrički apsces – leži ekstraperitonealno i širi se lepezasto do karličnih kosti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orkvirani ovarijalni tum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Endometri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trofleksio uteri fiksa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Lečenje apscesa u Duglas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unkcija Duglasovog prost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od ok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od kontrolom prstij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Zadnja kolpotom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bilna konzervativna terapija kao kod pelveoperitoniti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Putevi infekcije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) ASCENDENT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Putem sluzokoža, kanalikularno;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vagina, cervix, endometrijum, salpin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- Limfnim sudovima; 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endometritis, myometritis, parametritis, perimet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) DESCENDENTNI; 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perityphlitis, appendicitis, diverticul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C) HEMATOGENI; </a:t>
            </a:r>
            <a:r>
              <a:rPr b="0" lang="sr-Latn-CS" sz="2400" spc="-1" strike="noStrike">
                <a:solidFill>
                  <a:srgbClr val="ffcc00"/>
                </a:solidFill>
                <a:latin typeface="Tahoma"/>
              </a:rPr>
              <a:t>T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Uzročnici infekci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treptoko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Stafiloko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Escherichia col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Gonokok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Bacili T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Clostridi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Prot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Klebsie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Akutni gonokokni pelveoperitonit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nfekcija nastaje polnim pu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rzo međusobno slepljivanje organa male karl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Relativno dobra progn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terilit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Akutni gonokokni pelveoperitonit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Simptomi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Buran početa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Trajni bolovi i jaka osetljivost donjeg dela trbušnog zida (defense musculair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Visoka tempera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Ubrzan pu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Muka, štucanje i povraćanj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Terapij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ahoma"/>
              </a:rPr>
              <a:t>-Energična antibioterap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Akutni pelveoperitonitis izazvan banalnim gnojnim bakterija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9640" y="328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Ima ozbiljniji tok i manje povoljnu prognozu od gonokoknog, jer zapaljenje pokazuje tendenciju da se proširi na trbušnu duplju i ceo peritoneum. Ipak je prognoza quoad vitam do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ffff"/>
                </a:solidFill>
                <a:latin typeface="Tahoma"/>
              </a:rPr>
              <a:t>Najčešći unos infekcije je nesterilnim instrumentim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420640"/>
            <a:ext cx="8229600" cy="34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Kriminalni pobačaj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rteficijalni prekidi trudnoće , sondiranja materice i eksplorativne kiretaž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uerperalne infekcij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Biopsije, polipektomije, elektrokoagulacija, konizacija, amputacija, dilatacij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HSG i insuflacija jajovo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Nishodnim putem i per continuitatem – appendicitis, pyosalpinx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erforatio uteri violen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ostoperativno zbog povreda creva ili m. bešik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Simptomatologija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Bolovi u donjem delu trbuh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Štucanje, povraćanje i mučn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Visoka temperatura – preko 39 stepe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Sitan i ubrzan pu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Opstipaci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Jaka osetljivost donjeg dela trbuha pri pregledu, kao i jak bol pri pokretanju cervik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ahoma"/>
              </a:rPr>
              <a:t>Diferencijalna dijagnoz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Appendic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Perforacija crevnog divertikulu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Torkvirani ovarijalni tum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Nekroza subseroznih mio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Haematocoella retrouter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8:22:23Z</dcterms:created>
  <dc:creator>Goran</dc:creator>
  <dc:description/>
  <dc:language>en-US</dc:language>
  <cp:lastModifiedBy>Goran</cp:lastModifiedBy>
  <dcterms:modified xsi:type="dcterms:W3CDTF">2005-11-07T20:50:01Z</dcterms:modified>
  <cp:revision>4</cp:revision>
  <dc:subject/>
  <dc:title>PELVEOPERITONITIS GENITALNOG POREKLA</dc:title>
</cp:coreProperties>
</file>